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B83-D477-44A4-B100-E454B219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620-4757-47A0-A97B-9107D386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14728-9351-4D40-917C-EFE2882C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1CF5C-A5A6-4282-9F78-A54B98C5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22A0F-9190-42F5-A5E8-F81B226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451AC-7507-4C9C-BB84-363002DB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A73AC-7A62-47FA-9DF7-0A71BF56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1DED8-A07A-4625-8439-91C1D050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4C933-6198-422A-AC1D-ABCEBBA5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872ED-D654-4166-9185-EC477206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4178E-7674-4A2E-87F1-CA88B3FC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B5455-A824-4937-AE26-2D39977F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3E1-9E03-42FD-B35C-24B16FF3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30827-A475-4D93-9F5E-38F1B451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62EF5-EDEF-4C03-8C81-2CF75B02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4C42F-F56B-450B-9763-AE5AE1B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A8807-47AD-4445-9381-F57685CD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F948E-F4B9-4201-A16F-1EE4D6EA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61B10-E946-4211-A1B4-4D5299A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05155-5FED-4BCE-8698-3F70523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15126-7C16-4C22-B67A-1BEFA719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32FBD-EAB2-41F3-AEBF-6F6C8C48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17D41-263F-4CF9-B0CC-EFEB10A9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D47-F537-4C2F-B31A-17AAB2B9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16295-2860-4930-A65B-CBD4017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8E7B2-2F5E-42D2-8EFD-36EB28B0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8AEF5-B49E-4EEB-B720-3942DA37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A11F6-798F-4867-B038-1AD7C9F2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A00E9-E406-416B-90CE-837FDA20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DD416-BD83-4028-8C77-7F095DAD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EF20F-1CF0-4A6C-B1F4-F53C2C77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D5179-94AA-4166-8D6F-56BBEAA4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0B611-2F5A-4894-BBD3-0D512BA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C2D7C-9385-4C13-BB7B-8F32C470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85A6-3C1B-4025-A616-FBEC19BA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86EF1-33CD-4BE3-88B1-A7AD03C6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22B0C-2611-4DD7-9860-5855A72B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59B9F-AE2B-4566-BDE2-C2E4EFC6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F3469-2A8F-4550-89FA-7EB3ECE4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008CA-4989-4C3F-88B5-338BA02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FB7A2-23B3-4DA1-AEA8-AC253452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72FA9-C8B0-443D-895E-44BE85D1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B7B63-5616-4BE2-B130-58F7BDAD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CEE90-7F95-4574-8064-95CD094C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BBA79-D439-48EB-849B-E03302A6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8422-7E26-42A0-AFD8-54FED37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5921E-ADA6-4F26-9F63-DB0F098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487D4-AC41-4BD5-B6F9-A1E3D4D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B0B24-2372-436B-B99C-46EA1440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CF666-47AD-41D6-821C-23128E7D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E385B-CF13-476D-99B3-082777A7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7613C-0B13-4C28-95C9-55ECCCD7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4E931-E518-4B87-BD34-E4136710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DFF52-71F6-49E4-ACB0-B3D74F83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74687-31BF-441F-A72A-BF0CF82B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FB9EC-7BF4-467E-89BC-43ECF19B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71FA-57C7-4120-A4F2-9595C2ED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AE1BC-C461-4CA1-8D0C-899A9D6C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54AC0-78D7-4F17-8747-535492A0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760B2-D744-487C-A2FE-C5F6E012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B3A9B-C42E-404F-BC33-15E07DFD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34BDF-1042-4DE7-8CEF-6ACB2C4E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4C26B-C0C0-4988-A3C6-E7BA075C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686BE-A066-41A5-90E7-D7AAC5CA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19DB3-3A2C-4E65-8F2F-A4CE9BE9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E53D4-BA97-44C4-8589-E43643E7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1D2D3-454F-4C25-9F38-0C4469C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0D81-386F-4DD9-8129-7CF3286C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6E870-2FBC-4B64-BE71-935BA447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5100B-E82F-4969-A77B-9F9FC676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24F8D-A965-47ED-9EE1-D20ED46B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5C711-4478-4CC4-B705-BD8AA74D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E4583-5DA2-48E3-AC0E-0570F6B5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3C744-A360-470F-8A00-071844F5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9B087-F339-47B9-B03F-18725ABF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88122-1043-4703-A46F-136B2D20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C645E-2CC1-41DD-B732-0955722B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1B544-14CF-460B-8E4A-CEBF4E24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DC50-AC9B-4CF5-8BEE-3381B32E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D893B-A157-46D3-A750-E5C42850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1FBC9-F70C-422D-BF0C-CEA8985F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F49A6-DF7A-4A8A-9325-3E5E57A5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A92FC-C580-4206-95AB-6536BCEB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A5B6A-2881-4366-9F6A-E1BA18D9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B6677-AB02-46E1-9E75-B546E1D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32E6B-1065-4F14-8E74-371D44DB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E5402-D82E-4455-9B12-7BAA803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9E778-18D7-40BE-A526-7B8B26AB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6DB43-0B2E-44F9-B82C-9AF41F63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5303-1CAC-425A-9B6D-A3B44F52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A7FC9-F5E2-4FB0-8A54-8CDD33FD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5CD12-06D5-48B8-B44D-7543F595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140CC-81D5-4E89-B2A0-95E8F03D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CAA93-2AF7-446A-9D3B-D8D3F8C7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504C9-22D5-4634-89AF-336B2B63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38C25-0D38-4E34-8446-4E7BCC7F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5C464-24DE-46C2-9351-D885994C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7F2EA-B1D8-41D5-BDD9-A7FC2095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2D474-1FB2-4F75-841A-772C074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BCF3E1-A249-47A2-817E-7E2517FA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6F1C-D1C8-4F87-81A0-C965F2C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2A3F6-0272-4098-9A52-3A5F0739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116DD-88E4-41D4-AB45-670BD775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A79F0-3F50-47FB-A6C6-96B5DA22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2B0FA-C8FF-47A9-A739-BBC19899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17581-8601-4BF2-842A-830FC0EF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0CBFC-AC7E-4645-8CC8-1F31BA31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F437C-F93E-4A67-B000-EC8C7286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66CA3-E4C0-478D-B241-A98997F5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BFB06-93A1-416B-BBBD-8C2FCAF9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91C54-3D2A-4633-9163-6FE72A5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37A-0222-4BF5-BF3C-36E48E87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769D-9B41-4484-995F-B92AF29E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B9907-CE09-40D0-B591-987BECD8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868EF-08EF-4581-AC19-C2BC715B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73247-4245-48BE-B801-3E0880CE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9AEC8B-E21F-4A35-8C53-2C871A32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0643E-E353-46A8-98C3-18C3B734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43723-2E5D-454F-84F0-F6D51A3E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63160-8C33-415D-B236-C07E0113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2F8411-D5DC-405B-9B67-C447B090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5C526-BC57-4B3E-A0B1-CA566D8C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280E9-7DAD-4523-A204-662275E2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404E-339C-4B4A-8388-959AE7E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254CAF-D862-451B-A369-82729999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836156-A7DF-45A6-AF25-50D7FE5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17ED3-70E2-442B-B64D-E3CBF80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B02E5-E93A-482F-B2F4-19CCAF8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FBE47-DD25-44A2-946D-4F3CF3D7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079E2-62D1-4B74-99C9-DF2E1284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6D546-A6E0-4214-8F13-871C135B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4CFDA-65B5-4EE2-AD37-9386B10A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626E78-58E2-4FE9-9C14-38BAC166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94FF0-5B55-4994-8224-176FF184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3845-76E7-4E16-B63A-168AEF0E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BDE03-86A8-483B-9835-4296BFBC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60CC7A-D686-4346-8CEB-AA8A42DF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0C0D98-F3C0-4840-AECC-5C23377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9B993-4D3E-47C0-8903-0D2BA1FD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08684-C59B-4DFE-9FEF-2FACBF3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E7F3D-BFEA-4C6A-9C21-3874325F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2CF8D-CCE0-466D-BE45-1D9EFD6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910694-63D6-48C2-B6A4-D3190F4A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47DD2-9FC9-4FB7-ACA9-50FC3986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86025-338C-4F5D-AD0B-AA71230B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CE45-7D27-4D9C-928F-46F2E0B1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D959F1-FD79-4D3E-9BF0-63887984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16EED-C9B6-4639-81F9-2F5C9AE4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B6BFA-4AE2-482F-883C-946D074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A70033-5F30-4F43-952B-B07FE35D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C7C8F-CA19-4836-8F06-1BCE60F0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03AC2-5855-4ED4-A050-B01FC233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3B7FB-7912-422F-BF95-B07359D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1E65C-EB43-486F-8A22-659992FF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EDCAA5-DF95-4F87-A6E0-50D20749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22136-3B54-488B-A97D-D6C03DCE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BAB5-CF72-4405-BB31-BB452E95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7D6ED-022A-484C-88DF-DBE61AE5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6F7DCE-D448-4E4E-914E-F47B6D25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601D4-9382-4F21-87A9-913A3CB1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5B789-0294-4770-9E2F-8283047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9FEC45-A362-48E1-9F51-F9CD9D02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612A70-C57E-442D-83F5-25EF01FC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631BB9-A5BF-42F7-B78F-4E8AC8D3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BEFC2D-B219-4E74-AC8A-A9D032A6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7DA65-3F7D-40C9-B3AC-DD353A1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40BD5-A8AD-4DBB-9FEC-804CD87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8A1F-65FB-4BDF-AF22-96E7BAA9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7D0BF7-499D-4370-BDBD-8537AFC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F6BBD-7101-4B98-955D-5EBB9FE3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87DB1A-7710-4CB2-817C-3FB5BB48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432A-818B-4B7F-A15D-EB287627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6AD4-79ED-4E02-B29F-CA6026C7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7DE1-5D89-40F9-B25D-0005A79A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C37AE-FE76-4755-AC91-DC56B179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858-9554-4BDD-B644-062359AA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BC6E-6626-49BA-B591-189A5906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BCA3-8DD4-4D8C-ACD3-62F66C6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F6A5-1534-4D17-8813-1A8C02C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A32B-F430-43C6-9924-48592CAB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2804-E0C3-4198-BA2E-99FC1512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FE95-2167-4B7A-B97C-37576834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1CE6-A6CA-46D8-AB9C-A9FA8262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12ABF-4EB7-4483-B44B-3BA3631F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911D-1D8E-4F91-8505-0B4DD0AE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5ACD3-6813-4965-8341-5CD69E5B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338-370B-42D4-A8CA-9110772F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9E716-3AF4-4F7E-A374-7301870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5E97-B6CA-44B3-8D1F-8CE6CD76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07389-C047-4565-90DC-8DB8962D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65A1-228F-4E80-9768-82C0E4B5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F9CE-5FA0-4589-BADE-38C2678E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3C960-1C40-42FF-A3E7-E574BA3A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3E91-3EFB-40D5-B8AF-8EB8BAF4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8FB2-952B-43A7-9042-58EAE748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5F203-75D3-4D0E-A949-77515B80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D14E-4B39-43EB-B2AA-575F55D6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DCD-FD1D-4554-A867-871956A2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02673-1BF3-4375-8CE8-BAB5802F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EB19-42B4-47E3-94D6-7E7A77F3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ACBB-C246-4D65-949B-D069501A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42729-7CC1-4777-86AA-73135C86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2851-D40D-467F-8B4A-FF4571E3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1682-EDE8-4BE7-9262-13B4FD73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B0242-8BB0-4F5F-A85F-05AAA936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6B069-4C8B-4A91-A55C-ACF1DC3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CF6C9-1940-487C-9041-53ABE7B3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D3FAD-67D7-4593-A1A9-6BC12843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AE9-AE41-43F6-B00E-0FF26CCD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A67C-8DB8-4F02-B203-5132E655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2D402-2F16-4ED1-A559-02148602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FF909-7A88-46BC-9616-E585E107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063DE-87B7-430F-B88D-05329B5A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01F83-013B-48C2-B4B4-BA090B58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DCE6C-5167-4C26-A12E-D8036E0A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C624F-7B52-4A4F-8286-DF136695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570F0-8465-4B1A-B59C-1D35DEE1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AFB42-710D-4171-80FE-F0012992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CA23-F14A-48FB-83A7-75A62770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E68-021E-4DD5-BB24-BDE7D3D9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8435-73C0-4627-9AEC-4C42C1EF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94D6D-1B9B-4A1B-97F1-F6CF8E28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5868B-20F2-4DD5-83A1-BE114900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F577E-2938-4118-BA19-81E971E5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E4316-5B61-44C5-82F1-BAFA8708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91543-6FD8-483A-9160-E9157C67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B730E-AA92-4096-AA38-31FED7B7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99362-7210-4319-9B2F-7E3E39C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1501A-79E3-4BD0-AA8F-A94A3313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0BEC1-9AC3-438F-995E-8E8FF64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884-914E-43F7-8CF4-9678F44D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98A19-4E4E-44DB-B26D-DD3EB2C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11AD3-E4BA-40F4-9AAA-D94D5EB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F11A2-4DBC-43B2-860C-1F7EAB1D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0DEC9-EB2D-4170-BF3B-F25277C4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4E80-D57C-422B-9913-8505D21D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B68CF-784C-4842-ACAB-7540A910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EA3EC-867A-4916-B91E-77646FA8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B54B6-17DE-47FF-ACB4-BD73001B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891BC-F0EF-40D0-AF46-842E66B0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8C331-074A-4EFA-A538-7780F463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369-227C-4531-B5A6-4CE2946B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30784-4A6C-4F40-BE1B-B8DE9CFD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3E8C4-A486-4F16-BABA-C6A9C1E8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CDC85-2DBF-4515-8D63-537F2DBB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D57F5-9188-46E0-8582-3006198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DA236-377B-47FD-B4E7-258A4AD6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E69CD-319F-4C81-B1EF-94A6A03A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D1CEB-FAC6-4377-AB56-810BD393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E5224-7EFC-49F2-8CA2-B11C3F64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8683D-9D2B-427E-A112-43189824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FEE7E-FF60-4231-BC88-C8BFA45D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BF93-60E1-487C-8F65-CF6691A603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4277-3462-4608-A037-2F17583D96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85AD-1B60-4BCC-AC19-87CFC76187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1E92-11C4-4D4D-A847-5DF27B971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60AA-4C29-4544-B9DF-D9EC193A5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4907-D9E2-4BB9-90D4-C44AC3B22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772A-6F54-462C-9EDE-884F45442F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D20-463D-443A-A110-18A323B50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6C11-C557-4E4E-8B27-3224D82932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2C7-A8EE-4150-8E96-194E12B35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4563-B023-4D6C-A397-3C1D4D8905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94E3-D35F-4F84-847D-B0F50690EA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C794-3F17-4C50-A147-BA3F10B3E3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DD61-FCB5-49C2-A584-F249820F34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2BFB-E22E-47D0-856C-1FBA2D6457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04C3-71AE-4024-B792-EF145FF120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61E3-63DF-44A1-8489-700AF13B7C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F4A6-BEEB-445D-B885-65D4F47CE5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FEA1-658F-44ED-81BF-0FF0DB291D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B269-02F2-4D2B-BC6C-975BC4014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928F-C277-497D-9624-752BC7EB6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53B0-84A0-4E5C-AD48-AD2FB201D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20F5-D609-4DFD-8AA8-2D9A96594E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1504-9220-4795-B3FB-DBE948CE0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8073-074E-4BA7-A4AD-B38F07C7C7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11B0-CC63-4B02-9462-083853043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7848-A981-45EE-BFE4-9868268CB5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67C9-F748-469A-8600-156F998B3A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FF9D-F8C8-4754-957A-E5C45F6521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FE17-DA7B-4250-841F-963C437D97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F998-BCAC-486B-B781-50BF1A5163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E43A-9FC5-4A2B-9B0E-DB475AC8E6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AB3A-24CA-44F5-9360-8DA1469F4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9EF-D75A-4898-952C-294DC441E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371C-EA5E-467A-8E44-F768013A36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1DED-B579-4527-852E-1C8C137E41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4052-347C-48F6-A2B2-ABD68A9E8F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C663-F64A-464E-BA0A-19400FF7C6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24C8-9DB2-4EBB-97A8-6A140D466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BE60-526A-4A40-AFDC-9EFF04E7C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90520" y="2909880"/>
            <a:ext cx="85629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585720" y="762120"/>
            <a:ext cx="7972560" cy="5619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828880" y="36162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861240" y="36162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843280" y="4653000"/>
            <a:ext cx="433440" cy="385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875640" y="4653000"/>
            <a:ext cx="433080" cy="385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814480" y="5734080"/>
            <a:ext cx="433440" cy="385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46840" y="5734080"/>
            <a:ext cx="4334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128520" y="781200"/>
            <a:ext cx="8886960" cy="5743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527200" y="2982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653240" y="3040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2470320" y="38768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596360" y="3933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2513160" y="47401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581960" y="48261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2498760" y="5619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7596360" y="573408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738360" y="1409760"/>
            <a:ext cx="7667280" cy="4038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2211480" y="1816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16436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2224080" y="2722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7176960" y="27511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2195640" y="3587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7148520" y="36162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2224080" y="4479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9"/>
          <a:stretch/>
        </p:blipFill>
        <p:spPr>
          <a:xfrm>
            <a:off x="7176960" y="4508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214200" y="85680"/>
            <a:ext cx="8715600" cy="6686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042920" y="2046240"/>
            <a:ext cx="2449440" cy="3470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470320" y="1154160"/>
            <a:ext cx="21016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3780000" y="2031840"/>
            <a:ext cx="5184720" cy="47977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861240" y="1125360"/>
            <a:ext cx="21016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6324" descr=""/>
          <p:cNvPicPr/>
          <p:nvPr/>
        </p:nvPicPr>
        <p:blipFill>
          <a:blip r:embed="rId1"/>
          <a:stretch/>
        </p:blipFill>
        <p:spPr>
          <a:xfrm>
            <a:off x="423720" y="1185840"/>
            <a:ext cx="8296560" cy="44863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2447640" cy="2736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2124000" y="1327320"/>
            <a:ext cx="20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3564000" y="2060640"/>
            <a:ext cx="5184720" cy="36734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516720" y="1311120"/>
            <a:ext cx="201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5300" descr=""/>
          <p:cNvPicPr/>
          <p:nvPr/>
        </p:nvPicPr>
        <p:blipFill>
          <a:blip r:embed="rId1"/>
          <a:stretch/>
        </p:blipFill>
        <p:spPr>
          <a:xfrm>
            <a:off x="162000" y="189000"/>
            <a:ext cx="8820000" cy="6267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2771640" y="492588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4284720" y="486900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5867280" y="491328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7380360" y="486900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6948360" y="5905440"/>
            <a:ext cx="10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114480" y="1009800"/>
            <a:ext cx="8915400" cy="4838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475308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826920" y="4437000"/>
            <a:ext cx="475308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475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2231" descr=""/>
          <p:cNvPicPr/>
          <p:nvPr/>
        </p:nvPicPr>
        <p:blipFill>
          <a:blip r:embed="rId1"/>
          <a:stretch/>
        </p:blipFill>
        <p:spPr>
          <a:xfrm>
            <a:off x="100080" y="1028880"/>
            <a:ext cx="8943840" cy="4800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684360" y="3645000"/>
            <a:ext cx="37447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684360" y="4494240"/>
            <a:ext cx="374472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755640" y="5286240"/>
            <a:ext cx="48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59:5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